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15318"/>
        <c:axId val="3879071"/>
      </c:barChart>
      <c:catAx>
        <c:axId val="78215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9071"/>
        <c:crosses val="autoZero"/>
        <c:auto val="1"/>
        <c:lblAlgn val="ctr"/>
        <c:lblOffset val="100"/>
        <c:noMultiLvlLbl val="0"/>
      </c:catAx>
      <c:valAx>
        <c:axId val="3879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5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1AC-53E2-42CA-8A05-34DBAD1E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A8B-5F3D-4F0C-8BA6-4A4DDF8D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F71-BCF2-4249-B99B-B4F478DD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A85-A0E9-427A-B7AB-C807C486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FCD-7D63-4057-A1C5-7A3B1DB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C98-55D6-4007-AB30-6D06149A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D715-2BEE-435D-A474-9A0EBDFE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8E2-22C5-420F-AB82-403B6B9C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86C-0FFF-404A-B389-C970A133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59D-77C6-4C71-9D8F-FAC79239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011-9BEA-4654-8A8B-C6E0842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991-9018-43E4-9532-F1D0B26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DA0D6-0507-44AF-BB58-2643A110FE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