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50170"/>
        <c:axId val="1567086"/>
      </c:barChart>
      <c:catAx>
        <c:axId val="1175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7086"/>
        <c:crosses val="autoZero"/>
        <c:auto val="1"/>
        <c:lblAlgn val="ctr"/>
        <c:lblOffset val="100"/>
        <c:noMultiLvlLbl val="0"/>
      </c:catAx>
      <c:valAx>
        <c:axId val="1567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5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8B3-DED4-49D2-89CA-C6492256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7E9-7775-4D5A-8CFB-094799BD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F07-3848-4C69-87AE-DEAB4841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423-4891-49FD-9987-8F6527C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6CFC-5057-489C-BD47-2771A813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46A-69DA-4C4F-8E14-0B7B5C82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22A-2EB5-429F-AF72-7A934BB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B33-5F11-44E1-8A2C-E2EFAAC3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F18-BC91-402C-AE33-DC3BDD4F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DC9-CEAC-4261-81FA-9A317002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546-4537-4604-A14C-DF5EA62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775-39EB-4FD4-8A9E-796AE29E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42201-8C2E-4E91-A891-734E81B9F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