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72030"/>
        <c:axId val="81610898"/>
      </c:barChart>
      <c:catAx>
        <c:axId val="88972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10898"/>
        <c:crosses val="autoZero"/>
        <c:auto val="1"/>
        <c:lblAlgn val="ctr"/>
        <c:lblOffset val="100"/>
        <c:noMultiLvlLbl val="0"/>
      </c:catAx>
      <c:valAx>
        <c:axId val="81610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72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2FC-8EF5-4F67-A7CC-DFF54F18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AFB-5D5A-4ED2-9E18-5A8E38B5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4A8-A388-4C79-A9CE-FB3CEB60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902-5F98-4BA9-AFB3-B2389E48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F68-321B-4FD1-A549-3293A4F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A9D-2C83-4374-A8A6-23B0A6BD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C3E-0C86-4837-B7CE-EC508803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131-9343-4D42-9693-AAF8FA12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9BE-0221-4209-9C4D-8B3933CA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608-58E5-45AB-A875-2A9FE964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E17-191E-4141-89AD-D8393E00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8A6-D99B-49E8-85B5-4C11324B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BB4BB-63F1-4730-9E6D-2714F2D65C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