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95863"/>
        <c:axId val="22397181"/>
      </c:barChart>
      <c:catAx>
        <c:axId val="76495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97181"/>
        <c:crosses val="autoZero"/>
        <c:auto val="1"/>
        <c:lblAlgn val="ctr"/>
        <c:lblOffset val="100"/>
        <c:noMultiLvlLbl val="0"/>
      </c:catAx>
      <c:valAx>
        <c:axId val="22397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5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E18-EE41-4F74-BB19-2EEB8F52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BFC-0B13-426E-958F-DDB0A8EA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0FA-F63E-4773-9692-1F6D6C63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547-DDE4-4944-8A64-2668222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8C3-223C-4CCC-A2DD-ECB4ABD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B60-EAA2-46E7-BA64-959C506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16D-8D5E-48BC-80DF-5CDAA6F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77A-96CB-4410-94E3-7A5E4F4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1D1-ED6F-489B-9746-BB19AAD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1E0-2EA4-4B8F-83B6-02BA4D6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165-1F14-423A-916D-15E56DD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013-FE49-4F64-8237-CEC7EDD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1471C-4AF3-4CA0-90D4-AC1DABE41E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