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35574"/>
        <c:axId val="31624138"/>
      </c:barChart>
      <c:catAx>
        <c:axId val="62735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24138"/>
        <c:crosses val="autoZero"/>
        <c:auto val="1"/>
        <c:lblAlgn val="ctr"/>
        <c:lblOffset val="100"/>
        <c:noMultiLvlLbl val="0"/>
      </c:catAx>
      <c:valAx>
        <c:axId val="316241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35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091-3673-4C04-AC18-0185AEBC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C8B9-EDCB-405F-B6EE-8A34C396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B149-64B2-4078-B491-20741D2E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8375-4C92-4728-AF67-B121E57A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C1A-4D08-4CEF-B42C-87EAFDA0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183-3FFC-454A-A683-947F2510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5AD3-EE6C-4DA9-83C4-BC2F6005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7833-8732-4BB1-99CB-670161C6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46B-51C3-48D3-8517-8E5A5B0A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40A5-7FB4-40E6-85B7-80C7150B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539A-7CB9-4D60-8C14-DE546F45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01A-9CCC-4038-B289-65442871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22D57-0876-4D0F-9039-9E2DDF51A8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