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76751"/>
        <c:axId val="80588801"/>
      </c:barChart>
      <c:catAx>
        <c:axId val="738767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88801"/>
        <c:crosses val="autoZero"/>
        <c:auto val="1"/>
        <c:lblAlgn val="ctr"/>
        <c:lblOffset val="100"/>
        <c:noMultiLvlLbl val="0"/>
      </c:catAx>
      <c:valAx>
        <c:axId val="805888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767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C06-EF74-42B2-957A-5C5409D1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EB6-E8F7-47DC-AF58-F2F16468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6CCD-9390-41A4-9FFF-702AA0B9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BCE-C73D-484C-A91C-6A81203C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5AA-A5A1-4D77-8F62-192AFC1F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FD5-B17A-4880-89AE-E2ACD9E0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CBED-79E9-40C9-86E9-066D5FCE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C3C-9AE7-4E83-82A7-CE8F1D89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5EF-B770-4F6A-9CFE-F4A62AAF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435-08B9-45CE-AA70-0F173E1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AB8-9127-4744-975E-38D703A0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B57-1C39-4948-807A-1BEF31C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66627-5267-4EBD-8FBE-3AB715D96E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