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31349"/>
        <c:axId val="98405310"/>
      </c:barChart>
      <c:catAx>
        <c:axId val="62131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05310"/>
        <c:crosses val="autoZero"/>
        <c:auto val="1"/>
        <c:lblAlgn val="ctr"/>
        <c:lblOffset val="100"/>
        <c:noMultiLvlLbl val="0"/>
      </c:catAx>
      <c:valAx>
        <c:axId val="9840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31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309-EA58-42CE-A2C6-0082BA7F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729-C321-4493-AA44-D6040DB4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2FC-5D25-4892-90CE-945D3C65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CBE-67C0-479F-BF7B-1BD93A1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2D6-F70B-4E96-90AC-706D762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672-5AC6-4A67-82C0-6FFE005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A6F-CA16-4179-8684-66E66E59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2BB-8586-4C4F-B4EE-35BB0F9C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D2D-DFC0-4108-9C56-6F9638B1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51F-1EA4-472E-A121-1639163D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7A6-A456-47F5-866C-6C78F86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A85-F386-4289-9EED-203CDD5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C843A-2C8B-4149-81B1-CE2B98CECA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