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68478"/>
        <c:axId val="50608359"/>
      </c:barChart>
      <c:catAx>
        <c:axId val="81968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08359"/>
        <c:crosses val="autoZero"/>
        <c:auto val="1"/>
        <c:lblAlgn val="ctr"/>
        <c:lblOffset val="100"/>
        <c:noMultiLvlLbl val="0"/>
      </c:catAx>
      <c:valAx>
        <c:axId val="50608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68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A5F-37C1-4D29-B543-FB3EE1BB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D41-40A3-4456-8FD8-A8ACE674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100-636E-427F-AB8B-D80FEBE2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027-75B1-4664-9195-D8454478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F3D-14D3-40D4-AD79-AB03AFE9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122-55C1-4227-B168-FBBD6D2E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7A3-755B-4E85-9600-78A19AF4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D99-A9E8-4FB7-B96E-C8AD9F05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E71-62AD-43D4-BEFF-D5848576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890-C21A-4C4A-8C64-1873D6A6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366-D193-4D05-86F6-AAF61774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58D-E26C-4AA1-B700-6A117CF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6EC4B-B7C5-4428-AF4C-233627E746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