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01719"/>
        <c:axId val="36374824"/>
      </c:barChart>
      <c:catAx>
        <c:axId val="93101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74824"/>
        <c:crosses val="autoZero"/>
        <c:auto val="1"/>
        <c:lblAlgn val="ctr"/>
        <c:lblOffset val="100"/>
        <c:noMultiLvlLbl val="0"/>
      </c:catAx>
      <c:valAx>
        <c:axId val="36374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01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C66-81D9-4236-901A-245437FF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AB4-41BA-423A-88E5-1E5FF051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2B1-C646-4370-A928-3677432C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7A7-E152-4B38-A0EA-5040D0E5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396-0424-4DE4-BAC5-94B13DF7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ACD-882F-4847-B4AF-9563271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4D4-A245-4A36-A429-06E69D6C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941-73F6-4F04-931E-61264308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215-AA08-4967-953B-A1CB0796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4BC-74C8-4E01-A98A-7253AA0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D66-A353-4780-892D-A5C4B1EF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8A4-209B-4145-B8D4-4D35EF7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2F858-7AD1-4087-A7E1-6A919597EB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