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02469"/>
        <c:axId val="86772014"/>
      </c:barChart>
      <c:catAx>
        <c:axId val="99002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72014"/>
        <c:crosses val="autoZero"/>
        <c:auto val="1"/>
        <c:lblAlgn val="ctr"/>
        <c:lblOffset val="100"/>
        <c:noMultiLvlLbl val="0"/>
      </c:catAx>
      <c:valAx>
        <c:axId val="86772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02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0DB-82D7-4F3F-88F3-61856DC2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FAC-7F98-4A7F-9411-932595A2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3B2-922E-476E-B582-F457E7AF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547-B071-4224-B16E-A76A85D4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32E-04AD-4862-87E3-83D3516C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BFA-80D7-4DE2-906F-CC0FD68F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B6C-8093-43CE-B1AE-F6789854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1B7-6BC9-4FF7-A865-C5A116E7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437-FCF0-439F-B2B3-628078C1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AC0-BF02-41A2-87D5-D711A001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65E-E5B3-476D-97BE-9C5835A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1EF-022B-4F35-A7F8-6A45AFA2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E6F82-790F-4637-9E74-1C3C5EEFED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