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49816"/>
        <c:axId val="50520618"/>
      </c:barChart>
      <c:catAx>
        <c:axId val="79649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0618"/>
        <c:crosses val="autoZero"/>
        <c:auto val="1"/>
        <c:lblAlgn val="ctr"/>
        <c:lblOffset val="100"/>
        <c:noMultiLvlLbl val="0"/>
      </c:catAx>
      <c:valAx>
        <c:axId val="50520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49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2EF-8522-4683-8640-3C6AEA53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7DC-9197-4FFD-899F-62EEAE69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2FF-E258-40D2-BD90-80752D36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B43-6F2B-471A-A1EF-EE114716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A67-DFCF-4192-8743-61273B3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C25-4D89-4841-BD28-087A2178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7C9-3610-4EB0-8F43-C6C689E7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03E-FD5A-4CF6-805B-0CB77FB7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6FB-9486-4E2E-B95A-E529D3F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E6D-E1DA-45DB-8BEA-6B0D634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9D6-D64E-4FF2-B299-F6C1DD2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1FD-CF67-467F-A3A2-00B7E0B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22A4-2ACB-48DF-9641-5A8F9F9BE7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