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64609"/>
        <c:axId val="19735498"/>
      </c:barChart>
      <c:catAx>
        <c:axId val="75764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5498"/>
        <c:crosses val="autoZero"/>
        <c:auto val="1"/>
        <c:lblAlgn val="ctr"/>
        <c:lblOffset val="100"/>
        <c:noMultiLvlLbl val="0"/>
      </c:catAx>
      <c:valAx>
        <c:axId val="19735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64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55B-8AFD-4E84-B1E0-244E2E75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6B8-2BC3-4CF0-A8B2-6C9365C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6FB-A274-4E39-9C0C-AB7E4F12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B7E-0EA8-45AC-B625-1DB2187E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14A-36B6-4513-965C-7702198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A0D-0214-4470-9B6B-FDCC7CD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0DD-BE59-4E5D-AFF1-BB1CE823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434-A50B-41AC-A290-D788C009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FD6-33AA-43CA-915C-5BE43051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07A-BC46-41A1-B619-B93817E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126-1D94-4444-85DD-B96362B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209-BD9E-4ADC-A205-B133D3E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CAF0F-09B5-4AEB-8B61-567BBD225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