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74739"/>
        <c:axId val="51724329"/>
      </c:barChart>
      <c:catAx>
        <c:axId val="91874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4329"/>
        <c:crosses val="autoZero"/>
        <c:auto val="1"/>
        <c:lblAlgn val="ctr"/>
        <c:lblOffset val="100"/>
        <c:noMultiLvlLbl val="0"/>
      </c:catAx>
      <c:valAx>
        <c:axId val="51724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74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4A3-BFCD-4E5E-8E7E-BCEFC8C6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477-5533-4019-9B25-56908579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EDC-3C9D-49B5-A750-647007A1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B58-6B81-4EB8-AF64-53A59530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82B-BA7A-4C2C-AD47-290C921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CFB-61FE-45C7-BDA9-2FDBEC5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788-8240-466C-A27E-8694CB53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FA8-F59A-4A50-BEE1-72542104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F49-FF0D-48F2-A08B-A0A60CC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04B-18B6-42D7-80D2-D8437C7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94E-85B6-4CC0-B373-EBA38BB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DDC-97FD-4986-9D5B-A184FFD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AA8E6-FB29-41B3-B4F5-9B180C9CB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