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4687"/>
        <c:axId val="46373973"/>
      </c:barChart>
      <c:catAx>
        <c:axId val="69644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73973"/>
        <c:crosses val="autoZero"/>
        <c:auto val="1"/>
        <c:lblAlgn val="ctr"/>
        <c:lblOffset val="100"/>
        <c:noMultiLvlLbl val="0"/>
      </c:catAx>
      <c:valAx>
        <c:axId val="46373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4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88F-B053-432B-81C7-31FF1227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DE4-7A57-4089-8DDC-95583BD2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0C6-A654-4D32-AD6E-3DE5C41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481-6D91-4143-808D-E34467A9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0BD-E731-4EBE-9074-DBFE6BA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798-EBFC-4684-9226-EA9E0A71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19E-86B0-4123-93F0-6573B544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327-E4C4-458C-889D-A5D26F8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B81-60BB-4B28-BC1D-55FFFEC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BDD-3423-496E-8AF1-40ED2C2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0E7-3A7C-46CD-B5D8-E9EA9DD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3CE-5C71-47E2-8CBD-F7BA683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9C47B-36C0-416F-90FB-7D36C3139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