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02210"/>
        <c:axId val="14865486"/>
      </c:barChart>
      <c:catAx>
        <c:axId val="49102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65486"/>
        <c:crosses val="autoZero"/>
        <c:auto val="1"/>
        <c:lblAlgn val="ctr"/>
        <c:lblOffset val="100"/>
        <c:noMultiLvlLbl val="0"/>
      </c:catAx>
      <c:valAx>
        <c:axId val="14865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02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656-12A8-403A-823F-F0933B26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125F-61D2-4A15-95B5-7DBF6836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0149-9A52-45CA-BE1C-0868BACE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F70-4514-469E-9956-32B0C7C3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3C2-1B12-4415-805D-94A35480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735-381D-4A26-BE8B-35A2A515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C799-07C3-426B-A39D-5D23363C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1D1-3C4C-4ADC-9AD8-9FF870A1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9B1-9E77-486E-93A9-275569B7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F92-FB28-48D0-BCB1-45EDD5B6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39C-8630-4F5C-A5A2-99178672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8DF-EDEA-4D7F-8466-8BDA7050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2165C-D06D-4B8B-9500-EB82042FD9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