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47848"/>
        <c:axId val="70450461"/>
      </c:barChart>
      <c:catAx>
        <c:axId val="22247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50461"/>
        <c:crosses val="autoZero"/>
        <c:auto val="1"/>
        <c:lblAlgn val="ctr"/>
        <c:lblOffset val="100"/>
        <c:noMultiLvlLbl val="0"/>
      </c:catAx>
      <c:valAx>
        <c:axId val="70450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47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84B-9815-4226-8A78-4F1B5EC2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D43-16B6-4471-8406-2C46694F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323F-CC31-439E-A6A0-670AB423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E6E7-2BF2-4E2F-A4D5-884DD1B7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6540-113F-4760-8452-C29F11ED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1EE-3ACA-4594-834A-D91F86DD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C75-1F71-4A80-A496-9B041FE0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AC8-74D7-44AD-8B9A-E435B1DD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BCD8-6FE2-47CC-81CE-FA8FF693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536-57C5-4296-BDDB-BEA7E35A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CD4-75FE-4DF9-82FC-0F00AEB6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DDBD-39DF-4E7D-A4DC-32D6FC81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2D807-1224-477B-AA8C-87B4316748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