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7341"/>
        <c:axId val="18033128"/>
      </c:barChart>
      <c:catAx>
        <c:axId val="7217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33128"/>
        <c:crosses val="autoZero"/>
        <c:auto val="1"/>
        <c:lblAlgn val="ctr"/>
        <c:lblOffset val="100"/>
        <c:noMultiLvlLbl val="0"/>
      </c:catAx>
      <c:valAx>
        <c:axId val="18033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7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4BC-E8CD-4EE3-A277-34AB4FA1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971-2DA6-4FE4-870A-5E592048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BC0-340E-4A46-988B-F45C7585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2CC-F8C0-40C9-90EE-3731B550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D9E-677C-4CA5-AA4E-4721010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B68-6647-451F-AD32-CA6A118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C45-D10B-4DDB-800E-FF2FD47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95B-55CF-4795-B52E-00714BA2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C77-15A4-4136-949C-E440199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140-7D48-42A4-98FA-08CEC52F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F88-A6D8-42AE-83B7-40499C68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976-CB3D-4BCE-9453-13DE857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EAA20-C35A-4FB4-9845-1679EF2B27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