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28709"/>
        <c:axId val="18452244"/>
      </c:barChart>
      <c:catAx>
        <c:axId val="48228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52244"/>
        <c:crosses val="autoZero"/>
        <c:auto val="1"/>
        <c:lblAlgn val="ctr"/>
        <c:lblOffset val="100"/>
        <c:noMultiLvlLbl val="0"/>
      </c:catAx>
      <c:valAx>
        <c:axId val="18452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28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7C5-5F90-423D-AB0A-4954F078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CD3-909C-498E-92AC-72AE1EE4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C97-E344-4CC8-B8BC-E1DB2ABE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FD2-1AF6-47CE-96C1-79AB79E3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515-5262-42E1-A5E3-450C1AAA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312-C8CF-4EF8-B214-825F540D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641-42E8-4AB5-BCE8-5CF2B821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DE4-F6EE-45EE-8636-A76BBB35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219-FAC6-4A2C-9C74-5EDAE6F9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545-6731-4950-B43C-23BE38DC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8FA-ECFF-4956-8506-DAA0F5DA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7DB-47EB-4270-9811-C20A04AA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1CF88-8932-45DC-8E1D-9EAA6E5126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