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88387"/>
        <c:axId val="82928928"/>
      </c:barChart>
      <c:catAx>
        <c:axId val="40088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8928"/>
        <c:crosses val="autoZero"/>
        <c:auto val="1"/>
        <c:lblAlgn val="ctr"/>
        <c:lblOffset val="100"/>
        <c:noMultiLvlLbl val="0"/>
      </c:catAx>
      <c:valAx>
        <c:axId val="82928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88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68C-72D8-4843-A1B5-2B474955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0B8-67C2-40D7-A336-E3AEC167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6F6-B4A8-4E4D-AB95-E23C6AA6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C10-A604-4CB4-8C59-4F7E4C61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0C9-A2BE-4983-B4EF-D838F16D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12F-9C61-417B-AF02-42695C75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9F3-EB64-42FC-BF82-FC4D0507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2E9-0528-48F8-9EBE-2C0919E3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34F-19CB-4E76-B858-9BAE7D72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209-659E-4EFB-BC8B-E6CBCCF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3F6-FAD1-49F2-BC0F-4D4A059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03A-0610-44DC-8E88-06F95C34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C6595-8ECF-4FBE-ACBB-2715521B7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