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2104543"/>
        <c:axId val="57248831"/>
      </c:barChart>
      <c:catAx>
        <c:axId val="8210454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248831"/>
        <c:crosses val="autoZero"/>
        <c:auto val="1"/>
        <c:lblAlgn val="ctr"/>
        <c:lblOffset val="100"/>
        <c:noMultiLvlLbl val="0"/>
      </c:catAx>
      <c:valAx>
        <c:axId val="5724883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10454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1A2D3-3286-463D-9311-5E44429DE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AB6C3-F1CD-4EBA-AD2C-A37F2A018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BF549-5AED-423F-AB7E-EE2131017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FDC35-87AB-4AF1-9B36-2C89C770E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C799C-7C97-4B15-98B7-0509C2EDF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4EAF8-18E6-43E6-BDE1-889127758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438B3-F81A-43D6-8DE5-36170579B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EEA16-F731-45DE-959C-CB6E0DC59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8818F-A485-49F8-B0BB-E8A87FA9C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2C336-4303-49EE-A347-6C2E80BB4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56149-1F25-4986-ACEC-B44A78BF6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CDE9F-7E1D-4F53-BDA7-B312C1C79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73DD1E-0EBF-4329-9A70-8D7EFDA56A9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