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54129"/>
        <c:axId val="86257642"/>
      </c:barChart>
      <c:catAx>
        <c:axId val="18554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57642"/>
        <c:crosses val="autoZero"/>
        <c:auto val="1"/>
        <c:lblAlgn val="ctr"/>
        <c:lblOffset val="100"/>
        <c:noMultiLvlLbl val="0"/>
      </c:catAx>
      <c:valAx>
        <c:axId val="86257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54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7DC2-C2D6-4529-8BA9-AFBE740B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A4A-38B8-4E02-9CE7-AFDF3EC5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501-D610-4288-9951-2A77E8F2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EBF-A160-4663-AAEF-5ABDE687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8BC-BB9E-4FBE-A443-322EC0F7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E20-ED26-4501-BEC6-D81D2486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953-AA99-46A2-8656-FCE6392F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AB9-5536-4A9F-A9C9-C60F0CE6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8E1-811C-4892-AC3B-66D3D1BD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E02-29DA-47A5-80D8-9AC780E5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5FF-7231-4877-BC4B-75EB751B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ADF-4D27-4B3B-8D0F-68E79621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396BA-F72E-4DCB-AE97-17B0F64E1B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