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3944"/>
        <c:axId val="91989923"/>
      </c:barChart>
      <c:catAx>
        <c:axId val="9923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89923"/>
        <c:crosses val="autoZero"/>
        <c:auto val="1"/>
        <c:lblAlgn val="ctr"/>
        <c:lblOffset val="100"/>
        <c:noMultiLvlLbl val="0"/>
      </c:catAx>
      <c:valAx>
        <c:axId val="91989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3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8B6-C9C0-47CE-BD26-2A688584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C247-01D5-4E81-95CB-669F8322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BDF-C2B5-41D3-8B62-FA2A3A7F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EEE-7AB4-44DB-90FE-34E8F011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9F8-31D2-4DBC-9B1E-E36F738F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749-74B1-4D9C-91BA-AF01BF9A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EC0-1392-4E1B-9F59-6E676C85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D390-99E2-4AF9-81A9-1236F965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8D4-5477-4987-BDD7-10BF2428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B1C-A59E-4B2A-874E-47860060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70F-BEFB-4502-93A7-6B50F0AC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C526-29FF-4807-962D-4EB4002C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89022-CFB8-401E-8806-A87133EE63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