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21489"/>
        <c:axId val="14225764"/>
      </c:barChart>
      <c:catAx>
        <c:axId val="85021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25764"/>
        <c:crosses val="autoZero"/>
        <c:auto val="1"/>
        <c:lblAlgn val="ctr"/>
        <c:lblOffset val="100"/>
        <c:noMultiLvlLbl val="0"/>
      </c:catAx>
      <c:valAx>
        <c:axId val="14225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21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002-533E-43F8-853A-1815B122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7E5-A356-4922-9834-F3936DFD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E68-78CF-4E38-9743-84E75DD2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349-7E52-4D7F-88D2-4E4CD78C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231-90BF-408D-B9E7-A8804DEC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615-64B2-4F4D-9F46-87CF2B86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933-9D93-4B99-B218-03231AA4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BC6-06F1-4478-8F62-460CF84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481-89D2-4AA4-905B-54235101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CEA-19AF-4542-94D5-23085522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9D6-74C0-442E-8D99-50101A33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E4C-A47C-42E8-B385-FAC8B176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D0697-F412-4160-951E-00F1DD6190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