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504991"/>
        <c:axId val="57202862"/>
      </c:barChart>
      <c:catAx>
        <c:axId val="135049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02862"/>
        <c:crosses val="autoZero"/>
        <c:auto val="1"/>
        <c:lblAlgn val="ctr"/>
        <c:lblOffset val="100"/>
        <c:noMultiLvlLbl val="0"/>
      </c:catAx>
      <c:valAx>
        <c:axId val="572028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049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7E3F-7D9D-4364-9AD7-DAB6116A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7788-6C6D-461E-B758-ACAC661B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F957-6FB3-4BD0-893E-588E41B00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C395-F16A-41AF-A235-00997653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6A3D-DCAB-4049-8453-D8650C8E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240D-27E4-4ACB-9472-25E92AB1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A951-BBE1-4975-96C7-971BB41F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E0AE-9A23-47AC-A36B-1F270173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354E-0044-40DA-A9AD-756972E7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9399-B436-4E3A-AB6E-2B5F898B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FA85-4112-442A-BA9F-F2F45C0E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D7BB-B393-4BF1-A571-8E795454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2D142-D3AB-4413-B4B9-CFE9B8A1E6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