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40386"/>
        <c:axId val="34661396"/>
      </c:barChart>
      <c:catAx>
        <c:axId val="82340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1396"/>
        <c:crosses val="autoZero"/>
        <c:auto val="1"/>
        <c:lblAlgn val="ctr"/>
        <c:lblOffset val="100"/>
        <c:noMultiLvlLbl val="0"/>
      </c:catAx>
      <c:valAx>
        <c:axId val="3466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0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918-EE43-4852-8347-DC888580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257-4CBA-4966-A626-58E9AF0E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2DE-DFC7-4F13-BC37-D4421A23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E42-0F93-4D12-9066-0720C721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7CB-E790-435C-828A-B8D6D041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18E-4871-4C09-9033-07B4CF0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512-EB75-4B76-8E67-7D086A5E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4B3-57ED-4548-B9A2-C6A749C9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FED-C31E-424D-8CA3-07A40EA3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29D-9E30-47E5-96F9-58F12CD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D7A-36D5-465F-B699-6EAA8A45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4FF-1CB7-471A-AEA4-A4A5D99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CAD28-F86A-4F0E-A376-C57C8BB41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