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04209"/>
        <c:axId val="11045383"/>
      </c:barChart>
      <c:catAx>
        <c:axId val="559042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45383"/>
        <c:crosses val="autoZero"/>
        <c:auto val="1"/>
        <c:lblAlgn val="ctr"/>
        <c:lblOffset val="100"/>
        <c:noMultiLvlLbl val="0"/>
      </c:catAx>
      <c:valAx>
        <c:axId val="110453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042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74A1-CEF6-4B6B-93BA-1235377E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81B-C05A-4BD4-BEE0-734FE60D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D06C-6DD9-4445-94E0-B718B6FE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01C-65E3-4C2B-81AB-65206B91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60CD-0C5A-4168-B367-23EBEB03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EA18-1292-4859-AF07-10D40FB1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CF93-3A92-4C27-8A4C-91E09DD8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7346-8804-40EC-BD80-50541417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B1BF-5FB6-4BA2-8DA2-EB8A41B0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1AD-62D6-4C95-AD4F-9BDB807A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5D5-C531-41F4-A951-EC482E07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C07-58BF-4884-B133-A7D7D68E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79185-AF80-4F3A-B66F-6F9F559296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