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5833354"/>
        <c:axId val="60941411"/>
      </c:barChart>
      <c:catAx>
        <c:axId val="7583335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941411"/>
        <c:crosses val="autoZero"/>
        <c:auto val="1"/>
        <c:lblAlgn val="ctr"/>
        <c:lblOffset val="100"/>
        <c:noMultiLvlLbl val="0"/>
      </c:catAx>
      <c:valAx>
        <c:axId val="6094141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83335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C46E-903D-459E-A720-9DEF3B87E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2B6D-D337-4DC8-B68A-2A82F8493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452F-2E44-432B-B804-CD688690F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B286-94FC-41D9-836D-0894B3B37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3AE9-830E-47E4-BFAA-68E25AE50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0ED3-E34C-4A88-B095-403EE23ED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E6F9-9638-4A6D-A194-C8FBEFA46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E2D6-F69D-47DA-A872-7D4EEE154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EF80-9AAE-487A-96DE-C0AA49B4D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5A4C-3A5E-4E10-B028-3DF3E65C3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EA75-EBA5-4D9C-B115-67B573C40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5D77-4862-4ECC-B0FA-0B8DC28E7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C2CBF1-B7B1-4446-9CD8-E123BFB71BC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