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18967"/>
        <c:axId val="59765284"/>
      </c:barChart>
      <c:catAx>
        <c:axId val="3861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65284"/>
        <c:crosses val="autoZero"/>
        <c:auto val="1"/>
        <c:lblAlgn val="ctr"/>
        <c:lblOffset val="100"/>
        <c:noMultiLvlLbl val="0"/>
      </c:catAx>
      <c:valAx>
        <c:axId val="59765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1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15E-F5EC-4C31-9DE7-DD6AA4D9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EDC-AEF8-48D5-AACB-2169088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B23-2493-4F8D-800E-F4BD7746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9E9-9502-44A2-BC2D-ABEDDFD4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A9C-FD19-4DCB-A1AD-A7F013DE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AFB-257F-4B92-8F0F-29B821A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EFB-CBA9-4BAD-952B-BDCBA23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BE3-D6A6-445D-A919-7259398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B67-6F3A-42A0-8680-FE58CB1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8B3-6A83-4448-BF0A-D7B64B8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2AD-B6BD-40DE-8C02-153339C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DA4-D749-4D88-9508-624751E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38E7-CF9B-4794-AB10-026E808DA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