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09048"/>
        <c:axId val="56500605"/>
      </c:barChart>
      <c:catAx>
        <c:axId val="43509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00605"/>
        <c:crosses val="autoZero"/>
        <c:auto val="1"/>
        <c:lblAlgn val="ctr"/>
        <c:lblOffset val="100"/>
        <c:noMultiLvlLbl val="0"/>
      </c:catAx>
      <c:valAx>
        <c:axId val="56500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09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81C-4961-4857-89F6-61E04973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8B2-1414-48C8-8EA4-B7020E9B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AFE-99FC-4E97-890E-9058B251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2D8-309D-49E5-B654-D0E3F785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99C-48C4-4E2F-943F-9FFACE99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05B-ED12-4EC9-8A53-D6758F80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AC6-170A-4B5E-932F-FF250885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ACB-81ED-412A-B805-A6968B34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399-981E-4570-A093-BCFA5E2F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9B6-0E26-401C-8CF1-CFD321EA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FE2-B75E-4533-A0E2-B97A28D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0E6-CEEB-4F08-9C52-67F6F6BF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F83E0-5501-4DCE-AD27-1253F4E8BF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