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61514"/>
        <c:axId val="14565797"/>
      </c:barChart>
      <c:catAx>
        <c:axId val="968615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65797"/>
        <c:crosses val="autoZero"/>
        <c:auto val="1"/>
        <c:lblAlgn val="ctr"/>
        <c:lblOffset val="100"/>
        <c:noMultiLvlLbl val="0"/>
      </c:catAx>
      <c:valAx>
        <c:axId val="14565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615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B0B7-DB6B-4878-BC31-967053CF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685-F77B-4DA9-A9C1-C110D1FA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6BA-4819-47CF-8935-FD83B64A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5BB2-0CF2-45BC-804D-8C7DE077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E46-0CF6-4269-860E-12806B79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FD1-65F0-4090-8998-0ADDDEC3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0AB-D49B-405F-BDCB-08ECB724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016-3BDC-4A35-BBA2-007EE7EF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749-6C48-4F70-9A18-D041F4F3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0743-C4F1-46FD-ADB3-2265A31F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A34-EA2E-453B-BF4E-7E87DC3B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D65-4B5F-4B51-BE13-32889B2A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721FF-C39E-46C2-826C-5CF44B3BC5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