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77270"/>
        <c:axId val="28542033"/>
      </c:barChart>
      <c:catAx>
        <c:axId val="54977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42033"/>
        <c:crosses val="autoZero"/>
        <c:auto val="1"/>
        <c:lblAlgn val="ctr"/>
        <c:lblOffset val="100"/>
        <c:noMultiLvlLbl val="0"/>
      </c:catAx>
      <c:valAx>
        <c:axId val="28542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77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231-EE06-4D13-BAA7-ACCB3B39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E20-12D3-4C92-B725-80E662C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553-EC35-4477-AEC4-779D8284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D88-86C7-4FE1-9CDF-4B09AA3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454-8112-4096-902F-BCADAE9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19A-60D5-4A49-A5F1-E2439DCD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53E-E6D6-43FB-A911-6E7A545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BD2-F68F-4644-B670-4225E3F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940-14D3-4D7B-B219-A3B3665A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28C-D33D-4F32-A723-376B2D2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82A-E576-4F7E-BE90-29E62BB0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12D-3D82-4458-99F1-C2CF815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CD8FE-870B-4E83-A808-6EFBF4AB6C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