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29374"/>
        <c:axId val="7531203"/>
      </c:barChart>
      <c:catAx>
        <c:axId val="87529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203"/>
        <c:crosses val="autoZero"/>
        <c:auto val="1"/>
        <c:lblAlgn val="ctr"/>
        <c:lblOffset val="100"/>
        <c:noMultiLvlLbl val="0"/>
      </c:catAx>
      <c:valAx>
        <c:axId val="7531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9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F9A-B002-4388-A870-BC8BEBCC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ED4-677B-46D9-873B-947DA55E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5A3-8DCC-48B5-B224-FE72DAC8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C20-F54D-465D-8F03-DD7A3AC5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98C-3B77-4DCE-8FE7-3F41A5D2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BDB-4DAA-4574-911B-B939DEB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0F2-5B15-4957-A31F-3CE33A74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066-9EB1-4626-8CD9-6FD7087E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7B0-346E-41C4-B462-C4221D04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F4F-68B9-4FAE-9339-831C7FE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AD6-0E59-4955-9E9C-CB90C06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58B-84FD-41EC-825B-FA711ADB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DBB2D-8DE2-4CB3-A408-25732CE8A7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