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88389"/>
        <c:axId val="32147173"/>
      </c:barChart>
      <c:catAx>
        <c:axId val="72088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47173"/>
        <c:crosses val="autoZero"/>
        <c:auto val="1"/>
        <c:lblAlgn val="ctr"/>
        <c:lblOffset val="100"/>
        <c:noMultiLvlLbl val="0"/>
      </c:catAx>
      <c:valAx>
        <c:axId val="32147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88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B2E-7510-4462-8D36-936A3771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0A1-F197-4E6F-BE17-21444DD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19B-7A0A-412A-B7F0-060DEB4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F60-43AD-4784-8CCC-67B1EFEF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546-3A23-4143-B1A0-958E8778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5F6-A66E-4D51-816A-CCCE4FA2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5AA-8A16-4422-9546-5E234FB5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1B4-A3A2-47F7-B557-FF31368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C87-F615-4FD1-ACE7-891785C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2C3-A5A3-4D12-8BFC-0C51D9F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BF6-3352-4CC4-9ECD-21EFC97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ADC-51CD-4CE5-9109-7A06245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2EA4C-8D67-4667-9114-39FC2929D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