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64789"/>
        <c:axId val="83031068"/>
      </c:barChart>
      <c:catAx>
        <c:axId val="21564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31068"/>
        <c:crosses val="autoZero"/>
        <c:auto val="1"/>
        <c:lblAlgn val="ctr"/>
        <c:lblOffset val="100"/>
        <c:noMultiLvlLbl val="0"/>
      </c:catAx>
      <c:valAx>
        <c:axId val="83031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64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BCE-02C8-4344-8123-3FD533D8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65E-E3AA-4BD4-8A8B-D5C8E316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F98-6110-4C21-B033-82559234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337-41CD-476E-8790-A24AF863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A87-1F47-4BFA-AA9C-69873F02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29F-5D2D-4272-A3C5-F005FB38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BF8-E12B-4091-9ABC-D7820A87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574-001A-4543-BA86-4EEF5E39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6B5-2D85-4061-ABD4-0D318561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478-08F8-4059-9B38-7F2A659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392-C8E1-43BD-8ADA-2B6754D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D24-3D6B-4E26-BD64-7718959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AB649-D8F7-4F0F-AEE4-EC81292D23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