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38563"/>
        <c:axId val="86275075"/>
      </c:barChart>
      <c:catAx>
        <c:axId val="538385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75075"/>
        <c:crosses val="autoZero"/>
        <c:auto val="1"/>
        <c:lblAlgn val="ctr"/>
        <c:lblOffset val="100"/>
        <c:noMultiLvlLbl val="0"/>
      </c:catAx>
      <c:valAx>
        <c:axId val="86275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385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81D-B54F-4792-97AA-E1C1B44E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018-E4FD-4922-92D8-396C1AD8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5A54-BB9B-4331-8475-1CA278D9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901-EA2C-4D0E-9FEB-35E48831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75EB-0F83-48A8-9BCF-5F26898B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D04-EBEC-4988-815C-2D39411F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E0C7-C268-49F0-9560-503C4C1A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49D5-08F9-425B-BBAF-A580D19F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4DE5-BAFD-4EF8-BCD7-C95D3450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8BA-7AD3-498B-89FC-423E57C2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31F1-C682-48FC-B8EB-8AE69958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451-0222-4733-A6C8-99D96A79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5B75F-3320-4ECC-A253-2B0FED58E8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