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02650"/>
        <c:axId val="5751345"/>
      </c:barChart>
      <c:catAx>
        <c:axId val="48902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1345"/>
        <c:crosses val="autoZero"/>
        <c:auto val="1"/>
        <c:lblAlgn val="ctr"/>
        <c:lblOffset val="100"/>
        <c:noMultiLvlLbl val="0"/>
      </c:catAx>
      <c:valAx>
        <c:axId val="5751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02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6DC-968D-4F0F-8902-9086851D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3B5-B584-4795-A955-CEA5A3E8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7F7-8A42-4E11-B666-FC71D0A9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0B5-1990-47AC-9832-4C74C979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4B7-BD16-4A38-A591-713C5A95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F42-5035-41B1-A0DA-1308ED3C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EF3-5CDB-40B5-9477-D50E45BF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C38-044C-46D7-A370-8F650F6E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E1D-2ECF-4ED7-9FC3-79BB7D8B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71F-D87E-470D-904E-D0F0AE6E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B0B-DC5F-4B92-9773-A2C62336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4BA-8BC5-4FEB-8D4F-EFE98586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C1406-10B9-4CE1-A707-7A60890AC8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