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4859"/>
        <c:axId val="51688844"/>
      </c:barChart>
      <c:catAx>
        <c:axId val="6464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8844"/>
        <c:crosses val="autoZero"/>
        <c:auto val="1"/>
        <c:lblAlgn val="ctr"/>
        <c:lblOffset val="100"/>
        <c:noMultiLvlLbl val="0"/>
      </c:catAx>
      <c:valAx>
        <c:axId val="51688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D72-972B-497F-BEDD-1F5BCB3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D47-DC47-4FA4-8778-A471CE1C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1A3-2B1F-471C-8FA8-4853F145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719-37F8-45C9-8AF4-F91FD40F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2A7-0315-4ACD-8B9F-3071A90B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C9E-8CD6-45E9-8789-AFA4899B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26B-E174-45CA-8765-82942464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4E2-C31C-4802-8B97-850CBD7D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6CE-8901-486A-8D8A-F94A6AB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F11-8505-476C-ADF2-F61EF8E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123-F603-440E-A284-B3123A2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3CA-A3FA-4A25-B3A5-FA242F8A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970B4-7E44-4A98-95BD-7349B6168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