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44417"/>
        <c:axId val="43457458"/>
      </c:barChart>
      <c:catAx>
        <c:axId val="43044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57458"/>
        <c:crosses val="autoZero"/>
        <c:auto val="1"/>
        <c:lblAlgn val="ctr"/>
        <c:lblOffset val="100"/>
        <c:noMultiLvlLbl val="0"/>
      </c:catAx>
      <c:valAx>
        <c:axId val="43457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44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8A4-5CA8-4924-A990-207B707A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DAE-F9B9-442B-947E-FAD64E07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29A-3AFC-4AB8-AEC7-5CDB36AE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B1A-059C-44EE-939C-7D7F6E19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015-9632-4A95-9D0B-7027E2C7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AB7-9EF8-44C3-9CF6-7A7E940D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3CE-6135-4B69-B724-1F1F2726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803-A8CF-47CA-8CDF-8A3B20B5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657-FB91-4905-A015-0A4C0AD8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733-440A-4EAD-86F2-B686ECA2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AAC-7277-430A-B2C3-D17370CE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B730-B22D-49C5-9556-61817223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D6335-EBFF-479A-A10C-78D0C36DB3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