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70109"/>
        <c:axId val="96695632"/>
      </c:barChart>
      <c:catAx>
        <c:axId val="19670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95632"/>
        <c:crosses val="autoZero"/>
        <c:auto val="1"/>
        <c:lblAlgn val="ctr"/>
        <c:lblOffset val="100"/>
        <c:noMultiLvlLbl val="0"/>
      </c:catAx>
      <c:valAx>
        <c:axId val="96695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70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BD1-0B2D-454B-B66D-0B10FB32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CA5-E52A-4880-A9AD-E5AB4F9C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CA2-4F44-4625-8A39-D84B827C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E7C-F68B-4271-ABD7-05935A2A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930-8AFB-47B4-887B-0863E4C6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203-5945-42C9-AFFC-EDA1D640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299-7FC6-4F66-A446-C0E9B88F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B15-EF7C-4BBF-AA95-31BAF718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8FA-FD11-445E-9224-4322D83A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98E-C53E-4129-927F-DF632FB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8D7-E17D-4A13-80C4-8433709A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F48-DF00-4364-BC6B-E3420204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1415D-EFD0-4EEA-A55A-7BC5C7520B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