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343796"/>
        <c:axId val="85088170"/>
      </c:barChart>
      <c:catAx>
        <c:axId val="413437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88170"/>
        <c:crosses val="autoZero"/>
        <c:auto val="1"/>
        <c:lblAlgn val="ctr"/>
        <c:lblOffset val="100"/>
        <c:noMultiLvlLbl val="0"/>
      </c:catAx>
      <c:valAx>
        <c:axId val="850881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437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0FBC-DC40-428E-AA3F-F6457C434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1009-5186-403D-9690-96215399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8C4B-DEEF-4B59-8BC5-C029A791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4BC1-FE56-4064-9C30-16E9F9BF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2330-91D6-456E-AB94-A4C75E46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2AA1-83DA-4F49-BC54-F70C64F7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8AFE-778F-48E5-A2C2-B2714AC5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FEB7-5F1F-4F6D-A3BA-E2CCFC87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4E32-D34C-4C86-9B26-D9300275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C8FC-2E0C-42D2-9798-85201D98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8DCB-DB36-4E11-9B88-B4AE0731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FC9F-BCB0-460C-88CE-4389D236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2B611-B774-4A7B-BA54-94EB2F0EF2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