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93303"/>
        <c:axId val="39646846"/>
      </c:barChart>
      <c:catAx>
        <c:axId val="63933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46846"/>
        <c:crosses val="autoZero"/>
        <c:auto val="1"/>
        <c:lblAlgn val="ctr"/>
        <c:lblOffset val="100"/>
        <c:noMultiLvlLbl val="0"/>
      </c:catAx>
      <c:valAx>
        <c:axId val="396468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33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79A6-DD15-4F76-9BCA-A62120D8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546F-8D19-4BF0-8E10-81CEA064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DD62-FCB5-463C-9188-C1C40EF1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E271-2933-44B4-A4C6-08A05C3D9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0F48-5529-42D4-8720-E58A3F86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CDA7-0062-4CDB-8769-0FD3BC02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4300-730F-4286-AAE3-4FD9D858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5A79-4F68-4C07-8C3C-0CB639E0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FDB4-465C-4741-8E22-33E97D72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EFA6-806A-4311-8329-FCA93ECB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2221-49B5-43D3-8D7A-BE5ECF09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62EB-E67B-4258-BB05-38B8210C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2932E-2A25-4C12-9792-B25441F852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