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723863"/>
        <c:axId val="75093877"/>
      </c:barChart>
      <c:catAx>
        <c:axId val="227238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93877"/>
        <c:crosses val="autoZero"/>
        <c:auto val="1"/>
        <c:lblAlgn val="ctr"/>
        <c:lblOffset val="100"/>
        <c:noMultiLvlLbl val="0"/>
      </c:catAx>
      <c:valAx>
        <c:axId val="750938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238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8D36-666E-40FF-9B50-5FE4709E5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72FE-EA11-46F2-BFB6-38A654DE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6C8F-9463-4C44-88D4-ED652BBA4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1A42-1FFE-4B1B-B6E2-C0554E171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80F5-C0C5-4E40-87AE-7BD136A0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CFE4-325D-4DCD-B7D1-47DE1A42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0828-5BCD-48BF-96E2-EE889346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C41D-FA64-4202-9441-2FD0744D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A376-9628-41D0-94AF-DEAAF157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654B-6EF7-4BE9-93EF-8B7AC928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EDFD-EE8D-4FEF-AFDE-738BD8DF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E864-F297-4727-8175-7B274C6B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FB84B-EE03-4A5A-87A7-D3DC1F2BB8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