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306315"/>
        <c:axId val="42354783"/>
      </c:barChart>
      <c:catAx>
        <c:axId val="50306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54783"/>
        <c:crosses val="autoZero"/>
        <c:auto val="1"/>
        <c:lblAlgn val="ctr"/>
        <c:lblOffset val="100"/>
        <c:noMultiLvlLbl val="0"/>
      </c:catAx>
      <c:valAx>
        <c:axId val="42354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06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FE4-9867-4C21-BC15-3A872A58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D9E-5B87-4133-A11B-D0BD798F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4CA-CDC0-440F-9F28-22D33BA9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A51-146A-4533-BC9A-C041F9E9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A21-51B7-4638-A629-5FD9E598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3DB-175A-4CF4-8DF9-41692994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1AF-BD41-46D6-AA29-37A9614B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193-4AEC-46FB-ABCB-FF8167D9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E1A-391B-4499-9A5F-134E0974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70F-9015-4CC8-9D23-C8046267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527-585E-4BC5-B54B-6E0AA7BB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7E9-F4B1-4A97-80EC-52AF6299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BC9CB-1F34-4E1A-9A21-C71EB8A086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