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67031"/>
        <c:axId val="4979359"/>
      </c:barChart>
      <c:catAx>
        <c:axId val="59667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9359"/>
        <c:crosses val="autoZero"/>
        <c:auto val="1"/>
        <c:lblAlgn val="ctr"/>
        <c:lblOffset val="100"/>
        <c:noMultiLvlLbl val="0"/>
      </c:catAx>
      <c:valAx>
        <c:axId val="4979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67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5F7-7259-4CD9-8165-6C22FB43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E40-A84A-4954-9C70-3658273E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216-27B7-41BC-80CF-4AFF0D73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67F-CBAE-4688-9BC5-1F30F0A3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B50-29C5-40F6-BF27-B2BE3EBE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E8D-D0A3-4A25-B548-A1055682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D97-536A-4927-9C23-408329A6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D04-A012-480F-90EC-D4CE5671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92C-67BC-4F86-90EE-4A29D8BB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484-FB16-4BAC-BD2D-D5F00837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F36-4B42-45EE-AF63-74B2107D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1E3-A95F-4276-8B7D-570817B0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1CE8B-D6B3-4689-834A-0D0C24BE52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