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89163"/>
        <c:axId val="45543121"/>
      </c:barChart>
      <c:catAx>
        <c:axId val="78189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3121"/>
        <c:crosses val="autoZero"/>
        <c:auto val="1"/>
        <c:lblAlgn val="ctr"/>
        <c:lblOffset val="100"/>
        <c:noMultiLvlLbl val="0"/>
      </c:catAx>
      <c:valAx>
        <c:axId val="45543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89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4DE-A983-436E-9D5B-1503C5CA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973-C014-4A3E-A91D-C5E4633B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803-A161-4C05-B920-90BDD3E2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072-DD88-4F1B-B34E-D21DC34D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CB4-68C5-4DED-A56D-107BA8E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72D-67A3-4262-8C56-9EB0C190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F76-04BB-4209-851F-2BAE8093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F2C-D582-4999-939A-FFBD0B78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764-70FD-4D78-9FC1-19EC9B7F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7F5-B8BB-499C-A392-83EC0483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72A-6779-4B43-A047-7C8A9B0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CE4-75B7-4801-A968-1784AD1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B4CB1-6619-4396-9BE0-885E126214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