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76801"/>
        <c:axId val="26836835"/>
      </c:barChart>
      <c:catAx>
        <c:axId val="48676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36835"/>
        <c:crosses val="autoZero"/>
        <c:auto val="1"/>
        <c:lblAlgn val="ctr"/>
        <c:lblOffset val="100"/>
        <c:noMultiLvlLbl val="0"/>
      </c:catAx>
      <c:valAx>
        <c:axId val="26836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76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5D9-4B08-4805-A2BF-BC5E547A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B40-EDFD-49E0-9D38-41A556F7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8E6-EAB1-4A44-8159-B352D88A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F9A-5B81-474A-AB18-5D789071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640-B2D3-4266-889A-DB4AE1CF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774-764B-423F-BDAA-48D08309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252-2E38-4A73-BAE6-27F6C3B7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366-CC7C-4957-B98A-FDE31B50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020-9A48-44FB-AA1E-84389DE7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40A-FB28-4213-BEB3-D5D3F551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9AF-EC80-4EE3-BACB-CBFB2C0E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1BC-6735-46A5-B068-329938D8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D261D-33D8-481E-BD44-F4106E31B7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