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422605"/>
        <c:axId val="45871913"/>
      </c:barChart>
      <c:catAx>
        <c:axId val="284226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871913"/>
        <c:crosses val="autoZero"/>
        <c:auto val="1"/>
        <c:lblAlgn val="ctr"/>
        <c:lblOffset val="100"/>
        <c:noMultiLvlLbl val="0"/>
      </c:catAx>
      <c:valAx>
        <c:axId val="458719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4226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2320-4B50-4362-8F54-38781A4A7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E860-882C-496A-94C2-A5F7CCE94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4CDB-EC34-45B6-B7D4-69808E3BC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508B-3182-42A8-BEA3-A61DA82B3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5DE0-B68C-4DD5-89E3-7FF443C0F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CCB5-0846-4618-AC87-1D7C75E52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B965-2161-4127-BAED-889551989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0E1D-D913-4F5A-A146-FD50AD809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0384-6744-4D41-AE15-962E730A9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BA5A-5234-4222-8D6C-5AD9789B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9F27-03A2-437F-8123-C3707AEC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2A31-40AB-4936-98E1-12458858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2E7358-3D45-47C3-85E8-944BB50593C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