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915071"/>
        <c:axId val="89593793"/>
      </c:barChart>
      <c:catAx>
        <c:axId val="149150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593793"/>
        <c:crosses val="autoZero"/>
        <c:auto val="1"/>
        <c:lblAlgn val="ctr"/>
        <c:lblOffset val="100"/>
        <c:noMultiLvlLbl val="0"/>
      </c:catAx>
      <c:valAx>
        <c:axId val="895937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9150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6B45-BC3F-4B1F-A225-823B08817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18AF-B87D-4C80-9726-5A59E2050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5455-EF93-44A3-A21A-67B7AC6DB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2585-F7BB-44E2-97A0-F42D7DB67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B491-0AEB-4602-AF65-F9A1D9A66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6A29-E9CD-42C7-BFC9-5E38DA172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E332-4CD9-4706-8896-5B2A3D4A0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D852-B783-491A-8748-1434B14C5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836E-C3B0-428F-973F-8AAEC4CB0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0670-DC20-4223-9CD6-F31DE0F1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C29C-46A0-440F-B20E-071DE4FA4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8238-A2E2-4751-A588-CFB620435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EBEA90-9E41-400C-A9B3-609F4E9AB5E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