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32214"/>
        <c:axId val="98251012"/>
      </c:barChart>
      <c:catAx>
        <c:axId val="19932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1012"/>
        <c:crosses val="autoZero"/>
        <c:auto val="1"/>
        <c:lblAlgn val="ctr"/>
        <c:lblOffset val="100"/>
        <c:noMultiLvlLbl val="0"/>
      </c:catAx>
      <c:valAx>
        <c:axId val="98251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32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95A-7400-46DC-BD58-98C127E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2CD-0277-4870-AEC4-E0B68FC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3BE-AD5E-44F0-8317-FC348199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C1D-9FD6-4131-A2D8-4461B028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AF9-3324-4DD1-8F78-D585F1B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DF6-E499-4E10-BD81-A713BD6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258-34E2-40B1-97B0-4E74F2CA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B15-4670-4169-A353-3986CB0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A08-C51A-44B3-9B84-8CA851E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C81-23F1-4FF9-ABDB-DD19CA7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DA6-7586-4E1C-B5FB-98ACE53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58E-80FB-4621-A935-289CF80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DFBD1-52D0-4C72-9EE7-DF92255EE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