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4938"/>
        <c:axId val="10408862"/>
      </c:barChart>
      <c:catAx>
        <c:axId val="9784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08862"/>
        <c:crosses val="autoZero"/>
        <c:auto val="1"/>
        <c:lblAlgn val="ctr"/>
        <c:lblOffset val="100"/>
        <c:noMultiLvlLbl val="0"/>
      </c:catAx>
      <c:valAx>
        <c:axId val="10408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4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08B-B3CE-4E73-A639-DD102671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07B-9B12-41EA-ADE0-B21DC97E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68E-4AA5-43A6-9830-5FB9A949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9B6-F137-4BB1-BDA0-29917387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4B1-9A17-42A9-9AC3-3ECE7ACA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4CD-D6FD-4BC7-98EB-F64EA7FB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EFF-31D1-47DC-81AF-1787A073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8B9-6BEF-4686-A318-16782222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036-4896-4F22-BE8F-13D90E3D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FB7-EB8C-477F-9678-A825A2D8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BD9-62A2-4EAB-AA58-A9813D36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733-2445-43CB-848E-D8770B2E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B2B88-0B6A-480E-B648-72470B6FCB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